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30.jpeg" ContentType="image/jpeg"/>
  <Override PartName="/ppt/media/image31.png" ContentType="image/png"/>
  <Override PartName="/ppt/media/image14.wmf" ContentType="image/x-wmf"/>
  <Override PartName="/ppt/media/image6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5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6.wmf" ContentType="image/x-wmf"/>
  <Override PartName="/ppt/media/image20.wmf" ContentType="image/x-wmf"/>
  <Override PartName="/ppt/media/image18.png" ContentType="image/png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C8D-E3FA-42E1-9BD4-F6E64C7C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5DB-39D3-49B6-A1B4-75241290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F5A-987F-4330-9678-D3538FE1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F3F-4069-4D10-B7DF-F7999D1E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2C3-37D1-401A-A70D-4D4E3684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EDB5-1FFD-4977-9428-462559B3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E4C6-B385-473D-ACA9-9EA4509C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2AB6-6FBF-4537-9871-B466F2D4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CC09-FE33-4DB2-8E88-209B3076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8FBE-B10B-4A10-A86B-C3A287F8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0563-3D49-488D-9758-DFA34CDA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320-5165-460B-986C-46035307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81AE-F2AA-40E4-822F-D6DADFE8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91F6-BFC3-450D-8BE4-83A5837A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289B-869C-4F07-8E4D-EE81A942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1249-C44E-416F-871F-D3841400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278F-8616-474E-8F5E-5FA36550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225-A3F9-4149-B7E3-9EAA4B3C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E6F-5B01-4595-8E91-6E579BD1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D50-C5B7-4F2F-8886-7BE4D9CE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F60-0C6F-4106-8EBF-5031EA0B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E82-4B78-4B50-A401-FE822434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213-97BF-4774-8E4B-0B63A634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458-E3BA-4E95-A662-2F62577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F89A-4B1C-4847-834C-AE3B41D41B4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4BE4-CC4F-48CF-88FE-5B9EC6EBB09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762120"/>
            <a:ext cx="70866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07932" dir="18900000" blurRad="0" rotWithShape="0">
                    <a:srgbClr val="000000"/>
                  </a:outerShdw>
                </a:effectLst>
                <a:latin typeface="Arial Black"/>
              </a:rPr>
              <a:t>Дисциплинира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07932" dir="189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аучете детето да разсъждав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 причина до следствие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яснете кое е неправилнот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поведението му и защо 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ило наказан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йте му примери на правилн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неправилно поведе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последствията от тов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яснете му основните правил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 поведени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04000" y="2438280"/>
            <a:ext cx="2340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аучете детето да разсъждава от причина до следствие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ъведените правила трябва да бъдат къси, точни, лесни за запомняне и поставени в положителна форм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жете веднъж, след това действайт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пражнявайте родителския си авторитет с люб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VV00038" descr=""/>
          <p:cNvPicPr/>
          <p:nvPr/>
        </p:nvPicPr>
        <p:blipFill>
          <a:blip r:embed="rId1"/>
          <a:stretch/>
        </p:blipFill>
        <p:spPr>
          <a:xfrm>
            <a:off x="7013520" y="3965400"/>
            <a:ext cx="21304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Как да отгледаме добре дисциплинирано дете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VV00104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368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Осигурете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подходяща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обстановка!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VQ50010" descr=""/>
          <p:cNvPicPr/>
          <p:nvPr/>
        </p:nvPicPr>
        <p:blipFill>
          <a:blip r:embed="rId1"/>
          <a:stretch/>
        </p:blipFill>
        <p:spPr>
          <a:xfrm>
            <a:off x="6410160" y="380880"/>
            <a:ext cx="2733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ъобразете подхода си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ъм детето с неговите индивидуални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собености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VV00047" descr=""/>
          <p:cNvPicPr/>
          <p:nvPr/>
        </p:nvPicPr>
        <p:blipFill>
          <a:blip r:embed="rId1"/>
          <a:stretch/>
        </p:blipFill>
        <p:spPr>
          <a:xfrm>
            <a:off x="6324480" y="3886200"/>
            <a:ext cx="25225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99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Позволете на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етето да се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обслужва само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VV00045" descr=""/>
          <p:cNvPicPr/>
          <p:nvPr/>
        </p:nvPicPr>
        <p:blipFill>
          <a:blip r:embed="rId1"/>
          <a:stretch/>
        </p:blipFill>
        <p:spPr>
          <a:xfrm>
            <a:off x="0" y="2286000"/>
            <a:ext cx="2313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419076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ецата обичат да подражават, бъдете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обър модел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JE00191" descr=""/>
          <p:cNvPicPr/>
          <p:nvPr/>
        </p:nvPicPr>
        <p:blipFill>
          <a:blip r:embed="rId1"/>
          <a:stretch/>
        </p:blipFill>
        <p:spPr>
          <a:xfrm>
            <a:off x="6392880" y="4462560"/>
            <a:ext cx="27511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ставете детето да понесе последиците от постъпките си, ако това не застрашава живота, или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здравето му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VV00073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2762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4190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Понякога наказанието помага.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AVW00021" descr=""/>
          <p:cNvPicPr/>
          <p:nvPr/>
        </p:nvPicPr>
        <p:blipFill>
          <a:blip r:embed="rId1"/>
          <a:stretch/>
        </p:blipFill>
        <p:spPr>
          <a:xfrm>
            <a:off x="6019920" y="2362320"/>
            <a:ext cx="312408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ога е необходимо наказание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 повторно лошо поведе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гато непокорството застрашава сигурността на детет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гато съзнателно пренебрегва авторитета в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AVQ50032" descr=""/>
          <p:cNvPicPr/>
          <p:nvPr/>
        </p:nvPicPr>
        <p:blipFill>
          <a:blip r:embed="rId1"/>
          <a:stretch/>
        </p:blipFill>
        <p:spPr>
          <a:xfrm>
            <a:off x="6611760" y="4140360"/>
            <a:ext cx="25322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еобходимо ли е дисциплиниране?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VQ00005" descr=""/>
          <p:cNvPicPr/>
          <p:nvPr/>
        </p:nvPicPr>
        <p:blipFill>
          <a:blip r:embed="rId1"/>
          <a:stretch/>
        </p:blipFill>
        <p:spPr>
          <a:xfrm>
            <a:off x="5597640" y="4154400"/>
            <a:ext cx="35463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орми на наказание: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Лишаване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золиране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плескван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JE50144" descr=""/>
          <p:cNvPicPr/>
          <p:nvPr/>
        </p:nvPicPr>
        <p:blipFill>
          <a:blip r:embed="rId1"/>
          <a:stretch/>
        </p:blipFill>
        <p:spPr>
          <a:xfrm>
            <a:off x="5295960" y="4141800"/>
            <a:ext cx="38480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472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ързайте да биет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тето в гнева с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ърво си възвърнете самообладанието и тогава го накажете разумно и с любов. От такова наказание детет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ще научи ценен урок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VV00074" descr=""/>
          <p:cNvPicPr/>
          <p:nvPr/>
        </p:nvPicPr>
        <p:blipFill>
          <a:blip r:embed="rId1"/>
          <a:stretch/>
        </p:blipFill>
        <p:spPr>
          <a:xfrm>
            <a:off x="5505480" y="457200"/>
            <a:ext cx="36385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Защо боят не всякога помага?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9880" y="23623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ителите не са последователн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тето е упорит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казанието е закъснял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плескването е прекалено нежн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VV00078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19429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838080" y="68544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га детето не трябва да се бие?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09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всяко време, за всяка лоша постъпк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гато лошата постъпка не е преднамерено незачитане на родителския авторите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и 6-месечна възрас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ед 12-годишна възрас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IU00170" descr=""/>
          <p:cNvPicPr/>
          <p:nvPr/>
        </p:nvPicPr>
        <p:blipFill>
          <a:blip r:embed="rId1"/>
          <a:stretch/>
        </p:blipFill>
        <p:spPr>
          <a:xfrm>
            <a:off x="6819840" y="4800600"/>
            <a:ext cx="232416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CIW00302" descr=""/>
          <p:cNvPicPr/>
          <p:nvPr/>
        </p:nvPicPr>
        <p:blipFill>
          <a:blip r:embed="rId2"/>
          <a:stretch/>
        </p:blipFill>
        <p:spPr>
          <a:xfrm>
            <a:off x="0" y="3962520"/>
            <a:ext cx="2133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914760" y="609120"/>
            <a:ext cx="111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 и къде да се бие детето?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берете безопасни части на тялот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бийте детето пред други хора, или в присъствието на другите деца в семействот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ед успокояването на детето, поговорете с него приятелс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AVV00072" descr=""/>
          <p:cNvPicPr/>
          <p:nvPr/>
        </p:nvPicPr>
        <p:blipFill>
          <a:blip r:embed="rId1"/>
          <a:stretch/>
        </p:blipFill>
        <p:spPr>
          <a:xfrm>
            <a:off x="6337440" y="4191120"/>
            <a:ext cx="2806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108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Поведението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се определя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от темперамента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AVV00014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30225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идове темпераменти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сно поддаващи се на възпита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ца, които много трудно се променя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ца,чието възпитание изисква малко повече внимание и врем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AVQ50038" descr=""/>
          <p:cNvPicPr/>
          <p:nvPr/>
        </p:nvPicPr>
        <p:blipFill>
          <a:blip r:embed="rId1"/>
          <a:stretch/>
        </p:blipFill>
        <p:spPr>
          <a:xfrm>
            <a:off x="5487840" y="4935600"/>
            <a:ext cx="36561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ко вие имате трудн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 възпитание дете, н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 обезсърчавайте и не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 оплаквайте. Обучавайт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 как да се справите с нег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 молете Бога за сила и помощ.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TT50049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84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04920" y="228564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Целта на дисциплинирането е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AVQ50015" descr=""/>
          <p:cNvPicPr/>
          <p:nvPr/>
        </p:nvPicPr>
        <p:blipFill>
          <a:blip r:embed="rId1"/>
          <a:stretch/>
        </p:blipFill>
        <p:spPr>
          <a:xfrm>
            <a:off x="0" y="3813120"/>
            <a:ext cx="2587680" cy="304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9880" y="36576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ОКОРСТВО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64796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аучете детето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а се покорява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безусловно,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без оспорване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AVQ50071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42244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Дисциплиниране”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е значи наказание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То е преподаване, обучение, наставление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VQ00050" descr=""/>
          <p:cNvPicPr/>
          <p:nvPr/>
        </p:nvPicPr>
        <p:blipFill>
          <a:blip r:embed="rId1"/>
          <a:stretch/>
        </p:blipFill>
        <p:spPr>
          <a:xfrm>
            <a:off x="6121440" y="0"/>
            <a:ext cx="3022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2667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Родителите не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трябва да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отстъпват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JE50189" descr=""/>
          <p:cNvPicPr/>
          <p:nvPr/>
        </p:nvPicPr>
        <p:blipFill>
          <a:blip r:embed="rId1"/>
          <a:stretch/>
        </p:blipFill>
        <p:spPr>
          <a:xfrm>
            <a:off x="5862600" y="3279600"/>
            <a:ext cx="3281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800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е изисквайте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от децата си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еща, които вие самите не сте постигнали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AVR50030" descr=""/>
          <p:cNvPicPr/>
          <p:nvPr/>
        </p:nvPicPr>
        <p:blipFill>
          <a:blip r:embed="rId1"/>
          <a:stretch/>
        </p:blipFill>
        <p:spPr>
          <a:xfrm>
            <a:off x="6210360" y="3878280"/>
            <a:ext cx="29336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733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Избягвайте да обучавате децата си на повече от четири, или пет неща едновременн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AVQ00002" descr=""/>
          <p:cNvPicPr/>
          <p:nvPr/>
        </p:nvPicPr>
        <p:blipFill>
          <a:blip r:embed="rId1"/>
          <a:stretch/>
        </p:blipFill>
        <p:spPr>
          <a:xfrm>
            <a:off x="5021280" y="3741840"/>
            <a:ext cx="4122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омнете, че възпитавайки детето си, вие го правите такова, какъвто сте вие- неговият учител. Затова, давайте му уроци на милост и любезност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CJE00245" descr=""/>
          <p:cNvPicPr/>
          <p:nvPr/>
        </p:nvPicPr>
        <p:blipFill>
          <a:blip r:embed="rId1"/>
          <a:stretch/>
        </p:blipFill>
        <p:spPr>
          <a:xfrm>
            <a:off x="6638760" y="4506840"/>
            <a:ext cx="25052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Ефективен метод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а дисциплиниране 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е този, при който се запазва чувството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за достойнство на детето.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VQ00008" descr=""/>
          <p:cNvPicPr/>
          <p:nvPr/>
        </p:nvPicPr>
        <p:blipFill>
          <a:blip r:embed="rId1"/>
          <a:stretch/>
        </p:blipFill>
        <p:spPr>
          <a:xfrm>
            <a:off x="6730920" y="0"/>
            <a:ext cx="2413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Истинската цел на дисциплината е да се научи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научи детето на покорство и спазване ръководните принципи, поставени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т родителите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VV00111" descr=""/>
          <p:cNvPicPr/>
          <p:nvPr/>
        </p:nvPicPr>
        <p:blipFill>
          <a:blip r:embed="rId1"/>
          <a:stretch/>
        </p:blipFill>
        <p:spPr>
          <a:xfrm>
            <a:off x="6794640" y="4178160"/>
            <a:ext cx="234936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067040" y="43430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Кога трябва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а започне дисциплинирането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а детето?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IU50030" descr=""/>
          <p:cNvPicPr/>
          <p:nvPr/>
        </p:nvPicPr>
        <p:blipFill>
          <a:blip r:embed="rId1"/>
          <a:stretch/>
        </p:blipFill>
        <p:spPr>
          <a:xfrm>
            <a:off x="0" y="0"/>
            <a:ext cx="29336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ъзпитавай детето отрано в подходящия за него път и не ще се отклони от него, дори когато остарее”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24280" y="4876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.22: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CIU00117" descr=""/>
          <p:cNvPicPr/>
          <p:nvPr/>
        </p:nvPicPr>
        <p:blipFill>
          <a:blip r:embed="rId1"/>
          <a:stretch/>
        </p:blipFill>
        <p:spPr>
          <a:xfrm>
            <a:off x="7188120" y="3876840"/>
            <a:ext cx="19558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Ако до 6-месечна възраст детето не бъде научено да се подчинява на режима, установен в семейството, то ще научи родителите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а се съобразяват с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неговия режим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IU50053" descr=""/>
          <p:cNvPicPr/>
          <p:nvPr/>
        </p:nvPicPr>
        <p:blipFill>
          <a:blip r:embed="rId1"/>
          <a:stretch/>
        </p:blipFill>
        <p:spPr>
          <a:xfrm>
            <a:off x="6291360" y="4700520"/>
            <a:ext cx="28526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ъководни принципи при дисциплиниране на детето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ечелете и запазете уважението на детето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пределете граници на доброто поведение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VQ00014" descr=""/>
          <p:cNvPicPr/>
          <p:nvPr/>
        </p:nvPicPr>
        <p:blipFill>
          <a:blip r:embed="rId1"/>
          <a:stretch/>
        </p:blipFill>
        <p:spPr>
          <a:xfrm>
            <a:off x="6539040" y="4191120"/>
            <a:ext cx="26049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6T13:16:17Z</dcterms:created>
  <dc:creator>Pacific Health</dc:creator>
  <dc:description/>
  <dc:language>en-US</dc:language>
  <cp:lastModifiedBy>Borislav Ortov</cp:lastModifiedBy>
  <dcterms:modified xsi:type="dcterms:W3CDTF">2005-04-16T21:43:36Z</dcterms:modified>
  <cp:revision>9</cp:revision>
  <dc:subject/>
  <dc:title>No Slide Title</dc:title>
</cp:coreProperties>
</file>